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HI_FIGHT%2050-50.WAV" ContentType="audio/x-wav"/>
  <Override PartName="/ppt/media/millionaire.wav" ContentType="audio/x-wav"/>
  <Override PartName="/ppt/media/image4.gif" ContentType="image/gif"/>
  <Override PartName="/ppt/media/ANGELS_F.WAV" ContentType="audio/x-wav"/>
  <Override PartName="/ppt/media/image8.gif" ContentType="image/gif"/>
  <Override PartName="/ppt/media/NEPR%20%D0%BF%D1%80%D0%BE%D0%B8%D0%B3%D1%80.WAV" ContentType="audio/x-wav"/>
  <Override PartName="/ppt/media/image5.gif" ContentType="image/gif"/>
  <Override PartName="/ppt/media/image6.gif" ContentType="image/gif"/>
  <Override PartName="/ppt/media/image7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F14-FABC-48FE-A3D2-471D2F54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4834-B5FA-4AAD-8C94-153E579B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0A2C-3045-4768-B031-7F4DE144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A8CB-C712-443F-AE31-7F135585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0E40-5E06-4D3C-BA9A-91CBAFC2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21DC-4B36-48D0-9915-F9B2AE05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573A-5D54-41CF-AB05-AE6114EC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0F11-2C26-44F6-B975-49871641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0EF2-AAEB-4A7F-ABE7-763083B1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0D3F-FA0B-4A03-9069-7C5B298F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ED04-405B-4775-A6DD-B38619E0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5456-81BA-4475-86A9-9C362589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7F5A-ECC5-4553-BFF1-14899E40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76D6-9D29-4062-93CB-63E63A24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93A0-9DA8-4D39-801B-9E0E8983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7E3F-7657-405B-B814-377845A8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904B-06F8-4009-8D2E-EA313825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9A2E-F74A-493F-89C6-6061A33B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CE9E-F37E-43A3-917A-E34F496F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9583-64D1-49C9-BCCF-A8B7B6D1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8E2D-336A-41BD-9A73-7C344AAE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F017-D943-4484-A207-9259031D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0F33-E1F3-4311-8E74-84106537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2BA1-A1CB-4635-B04F-D6F3417E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0B09-095D-493F-9F70-C3F68ACE84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FF90-A4A7-414A-B0B6-15E485A0D4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ANGELS_F.WAV"/><Relationship Id="rId3" Type="http://schemas.openxmlformats.org/officeDocument/2006/relationships/audio" Target="../media/HI_FIGHT%2050-50.WAV"/><Relationship Id="rId4" Type="http://schemas.openxmlformats.org/officeDocument/2006/relationships/audio" Target="../media/HI_FIGHT%2050-50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HI_FIGHT%2050-50.WAV"/><Relationship Id="rId2" Type="http://schemas.openxmlformats.org/officeDocument/2006/relationships/audio" Target="../media/HI_FIGHT%2050-50.WAV"/><Relationship Id="rId3" Type="http://schemas.openxmlformats.org/officeDocument/2006/relationships/audio" Target="../media/ANGELS_F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HI_FIGHT%2050-50.WAV"/><Relationship Id="rId2" Type="http://schemas.openxmlformats.org/officeDocument/2006/relationships/audio" Target="../media/HI_FIGHT%2050-50.WAV"/><Relationship Id="rId3" Type="http://schemas.openxmlformats.org/officeDocument/2006/relationships/audio" Target="../media/ANGELS_F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5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990720" y="106668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Внеклассно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мероприят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для старшеклассник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26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1981080" y="3809880"/>
            <a:ext cx="480060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18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981080" y="5638680"/>
            <a:ext cx="480060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>
            <a:off x="1905120" y="4724280"/>
            <a:ext cx="495288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20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380880" y="685800"/>
            <a:ext cx="8305920" cy="19940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Times New Roman"/>
              </a:rPr>
              <a:t>5.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“Всё украшало кабинет философа в … лет”, Возраст Онегина в 1-й гла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10"/>
          <p:cNvSpPr/>
          <p:nvPr/>
        </p:nvSpPr>
        <p:spPr>
          <a:xfrm>
            <a:off x="1981080" y="2895480"/>
            <a:ext cx="457200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4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5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9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410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411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1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422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423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33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434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435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4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8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51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286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6336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Times New Roman"/>
              </a:rPr>
              <a:t>6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ерсонаж “Капитанской дочки”, подаривший Пугачёву заячий тулуп?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685800" y="5181480"/>
            <a:ext cx="33526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Гринёв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6"/>
          <p:cNvSpPr/>
          <p:nvPr/>
        </p:nvSpPr>
        <p:spPr>
          <a:xfrm>
            <a:off x="5181480" y="5181480"/>
            <a:ext cx="342900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Швабр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685800" y="4114800"/>
            <a:ext cx="33526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Савельич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8"/>
          <p:cNvSpPr/>
          <p:nvPr/>
        </p:nvSpPr>
        <p:spPr>
          <a:xfrm>
            <a:off x="5105520" y="4191120"/>
            <a:ext cx="33526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Миронов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20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25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6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8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85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5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496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497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07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08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09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9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20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21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250" autoRev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533" dur="250" autoRev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534" dur="250" autoRev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4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36576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Baskerville Old Face"/>
              </a:rPr>
              <a:t>7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то из героинь романа “Евгений Онегин”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Всегда скромна, всегда послушна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Всегда, как утро, весела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Как жизнь поэта простодушна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Как поцелуй любви мила;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Глаза как небо голубые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Улыбка, локоны льняные…</a:t>
            </a:r>
            <a:br>
              <a:rPr sz="2800"/>
            </a:br>
            <a:endParaRPr b="0" lang="en-US" sz="2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05" name="AutoShape 5"/>
          <p:cNvSpPr/>
          <p:nvPr/>
        </p:nvSpPr>
        <p:spPr>
          <a:xfrm>
            <a:off x="380880" y="5257800"/>
            <a:ext cx="373392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Няня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Татья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4419720" y="5257800"/>
            <a:ext cx="434340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Помощниц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Ларина в девичестве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380880" y="4267080"/>
            <a:ext cx="373392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Татьян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4343400" y="4191120"/>
            <a:ext cx="441972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Ольг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23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562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56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6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80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81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82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92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93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94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04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605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606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7" dur="25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618" dur="25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619" dur="25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2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5"/>
          <p:cNvSpPr/>
          <p:nvPr/>
        </p:nvSpPr>
        <p:spPr>
          <a:xfrm>
            <a:off x="228600" y="5181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Тропинин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648320" y="5181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Н.Н. Г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7"/>
          <p:cNvSpPr/>
          <p:nvPr/>
        </p:nvSpPr>
        <p:spPr>
          <a:xfrm>
            <a:off x="228600" y="4114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Кипренский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AutoShape 8"/>
          <p:cNvSpPr/>
          <p:nvPr/>
        </p:nvSpPr>
        <p:spPr>
          <a:xfrm>
            <a:off x="4648320" y="4114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Репин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380880" y="990720"/>
            <a:ext cx="8305920" cy="1993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2122a"/>
                </a:solidFill>
                <a:latin typeface="Arial"/>
              </a:rPr>
              <a:t>8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Автор картины “Пущин у Пушкина в Михайловском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17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19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29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66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65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72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75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676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677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3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684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87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688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689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696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99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00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01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25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713" dur="25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714" dur="25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1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2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153640" cy="22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Times New Roman"/>
              </a:rPr>
              <a:t>9.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т какого стихотворного размера не мог отличить Онегин ямба?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51" name="AutoShape 5"/>
          <p:cNvSpPr/>
          <p:nvPr/>
        </p:nvSpPr>
        <p:spPr>
          <a:xfrm>
            <a:off x="228600" y="5181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От хоре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6"/>
          <p:cNvSpPr/>
          <p:nvPr/>
        </p:nvSpPr>
        <p:spPr>
          <a:xfrm>
            <a:off x="4419720" y="5181480"/>
            <a:ext cx="44956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От амфибрах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7"/>
          <p:cNvSpPr/>
          <p:nvPr/>
        </p:nvSpPr>
        <p:spPr>
          <a:xfrm>
            <a:off x="228600" y="4114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От анапес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8"/>
          <p:cNvSpPr/>
          <p:nvPr/>
        </p:nvSpPr>
        <p:spPr>
          <a:xfrm>
            <a:off x="4419720" y="4114800"/>
            <a:ext cx="441936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От дактиля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25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26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37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650"/>
                            </p:stCondLst>
                            <p:childTnLst>
                              <p:par>
                                <p:cTn id="7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4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5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753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760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63" dur="1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64" dur="1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65" dur="1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75" dur="1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76" dur="1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77" dur="1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784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87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88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89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0" dur="250" autoRev="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801" dur="250" autoRev="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802" dur="250" autoRev="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0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4"/>
          <p:cNvSpPr/>
          <p:nvPr/>
        </p:nvSpPr>
        <p:spPr>
          <a:xfrm>
            <a:off x="304920" y="3200400"/>
            <a:ext cx="3809880" cy="9907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 Ираид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304920" y="4800600"/>
            <a:ext cx="3886200" cy="91440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Арин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2"/>
          <p:cNvSpPr/>
          <p:nvPr/>
        </p:nvSpPr>
        <p:spPr>
          <a:xfrm>
            <a:off x="4419720" y="4800600"/>
            <a:ext cx="4343400" cy="91440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Анастасия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4343400" y="3200400"/>
            <a:ext cx="4343400" cy="9907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 Ирин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80880" y="614880"/>
            <a:ext cx="8458200" cy="13129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54d35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8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  <a:ea typeface="Times New Roman"/>
              </a:rPr>
              <a:t>Как звали няню Пушкин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8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9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32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975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2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3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3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64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65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5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6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7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305560" cy="23623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Baskerville Old Face"/>
              </a:rPr>
              <a:t>10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Чем меньше женщину мы любим,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Тем … нравимся мы ей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228600" y="5181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Лучш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6"/>
          <p:cNvSpPr/>
          <p:nvPr/>
        </p:nvSpPr>
        <p:spPr>
          <a:xfrm>
            <a:off x="4724280" y="5181480"/>
            <a:ext cx="403884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Меньш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7"/>
          <p:cNvSpPr/>
          <p:nvPr/>
        </p:nvSpPr>
        <p:spPr>
          <a:xfrm>
            <a:off x="304920" y="4114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Больш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8"/>
          <p:cNvSpPr/>
          <p:nvPr/>
        </p:nvSpPr>
        <p:spPr>
          <a:xfrm>
            <a:off x="4724280" y="4114800"/>
            <a:ext cx="403884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Легч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23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9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830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83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3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7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838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48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849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850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6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857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60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861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862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869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72" dur="1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873" dur="1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874" dur="1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85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8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9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3352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Times New Roman"/>
              </a:rPr>
              <a:t>11.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романе “Евгений Онегин” читаем:</a:t>
            </a:r>
            <a:br>
              <a:rPr sz="3200"/>
            </a:b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Надев широкий боливар,</a:t>
            </a:r>
            <a:br>
              <a:rPr sz="3200"/>
            </a:b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Онегин едет на бульвар.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акая часть одежды называлась “боливаром”?</a:t>
            </a:r>
            <a:endParaRPr b="0" lang="en-US" sz="32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98" name="AutoShape 5"/>
          <p:cNvSpPr/>
          <p:nvPr/>
        </p:nvSpPr>
        <p:spPr>
          <a:xfrm>
            <a:off x="228600" y="50292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Шарф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4572000" y="50292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Шляп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228600" y="3962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Пиджак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4648320" y="3962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Пальто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AutoShape 24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916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91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2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2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924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931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34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935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936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2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943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46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947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948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4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955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58" dur="1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959" dur="1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960" dur="1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1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972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973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7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7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31244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a2122a"/>
                </a:solidFill>
                <a:latin typeface="Arial"/>
              </a:rPr>
              <a:t>12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Из-за чего Пушкин пробыл в Болдине с начала сентября до конца ноября 1830 г.?</a:t>
            </a:r>
            <a:br>
              <a:rPr sz="4400"/>
            </a:b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21" name="AutoShape 5"/>
          <p:cNvSpPr/>
          <p:nvPr/>
        </p:nvSpPr>
        <p:spPr>
          <a:xfrm>
            <a:off x="304920" y="5105520"/>
            <a:ext cx="396216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Из-за холеры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6"/>
          <p:cNvSpPr/>
          <p:nvPr/>
        </p:nvSpPr>
        <p:spPr>
          <a:xfrm>
            <a:off x="4572000" y="5105520"/>
            <a:ext cx="411480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Из-за чумы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7"/>
          <p:cNvSpPr/>
          <p:nvPr/>
        </p:nvSpPr>
        <p:spPr>
          <a:xfrm>
            <a:off x="304920" y="4038480"/>
            <a:ext cx="396216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Из-за грипп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>
            <a:off x="464832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Из-за ангины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004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00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0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0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1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012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8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019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22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023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024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34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035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036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2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043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46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047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048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9" dur="250" autoRev="1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060" dur="250" autoRev="1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061" dur="250" autoRev="1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6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6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6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26672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Baskerville Old Face"/>
              </a:rPr>
              <a:t>13.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Назовите стихотворение, в котором Бог повелевает своему посланнику “глаголом жечь сердца людей”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44" name="AutoShape 5"/>
          <p:cNvSpPr/>
          <p:nvPr/>
        </p:nvSpPr>
        <p:spPr>
          <a:xfrm>
            <a:off x="228600" y="5105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«Памятник»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6"/>
          <p:cNvSpPr/>
          <p:nvPr/>
        </p:nvSpPr>
        <p:spPr>
          <a:xfrm>
            <a:off x="4572000" y="5105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«Анчар»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7"/>
          <p:cNvSpPr/>
          <p:nvPr/>
        </p:nvSpPr>
        <p:spPr>
          <a:xfrm>
            <a:off x="22860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«Узник»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8"/>
          <p:cNvSpPr/>
          <p:nvPr/>
        </p:nvSpPr>
        <p:spPr>
          <a:xfrm>
            <a:off x="464832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«Пророк»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9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2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3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4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2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3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4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5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096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2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103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10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0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0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0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0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111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14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115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116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26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127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128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135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38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139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140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0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25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152" dur="25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153" dur="25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5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5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5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5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162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3352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Times New Roman"/>
              </a:rPr>
              <a:t>14. 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“Но, дверь тихонько отпирая,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Уж ей … седая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риносит на подносе чай.”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Назовите отчество няни Татьяны.</a:t>
            </a:r>
            <a:br>
              <a:rPr sz="4000"/>
            </a:br>
            <a:endParaRPr b="0" lang="en-US" sz="36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67" name="AutoShape 5"/>
          <p:cNvSpPr/>
          <p:nvPr/>
        </p:nvSpPr>
        <p:spPr>
          <a:xfrm>
            <a:off x="228600" y="5105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Филипьевна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6"/>
          <p:cNvSpPr/>
          <p:nvPr/>
        </p:nvSpPr>
        <p:spPr>
          <a:xfrm>
            <a:off x="4572000" y="5105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Прокофьевна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7"/>
          <p:cNvSpPr/>
          <p:nvPr/>
        </p:nvSpPr>
        <p:spPr>
          <a:xfrm>
            <a:off x="22860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Аркадьевна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8"/>
          <p:cNvSpPr/>
          <p:nvPr/>
        </p:nvSpPr>
        <p:spPr>
          <a:xfrm>
            <a:off x="464832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Михайловна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4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5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6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020"/>
                            </p:stCondLst>
                            <p:childTnLst>
                              <p:par>
                                <p:cTn id="1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1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540"/>
                            </p:stCondLst>
                            <p:childTnLst>
                              <p:par>
                                <p:cTn id="1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6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7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8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060"/>
                            </p:stCondLst>
                            <p:childTnLst>
                              <p:par>
                                <p:cTn id="11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2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3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4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5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196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19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0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0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0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3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204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0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211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14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215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216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2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223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26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227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228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4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235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38" dur="1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239" dur="1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240" dur="1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250" autoRev="1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252" dur="250" autoRev="1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253" dur="250" autoRev="1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5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5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5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44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45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46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47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8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9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50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1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52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53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54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55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56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57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58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push dir="l"/>
    <p:sndAc>
      <p:stSnd>
        <p:snd r:embed="rId1" name="millionaire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5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90" dur="25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31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27"/>
          <p:cNvSpPr/>
          <p:nvPr/>
        </p:nvSpPr>
        <p:spPr>
          <a:xfrm>
            <a:off x="228600" y="457200"/>
            <a:ext cx="8534520" cy="2070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Baskerville Old Face"/>
              </a:rPr>
              <a:t>15.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Автор книги “Мой Пушкин”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AutoShape 5"/>
          <p:cNvSpPr/>
          <p:nvPr/>
        </p:nvSpPr>
        <p:spPr>
          <a:xfrm>
            <a:off x="2057400" y="3652920"/>
            <a:ext cx="411480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Мережковский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AutoShape 6"/>
          <p:cNvSpPr/>
          <p:nvPr/>
        </p:nvSpPr>
        <p:spPr>
          <a:xfrm>
            <a:off x="2057400" y="5634000"/>
            <a:ext cx="419112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Ахматов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AutoShape 7"/>
          <p:cNvSpPr/>
          <p:nvPr/>
        </p:nvSpPr>
        <p:spPr>
          <a:xfrm>
            <a:off x="2057400" y="2738520"/>
            <a:ext cx="3962520" cy="76176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Брю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AutoShape 8"/>
          <p:cNvSpPr/>
          <p:nvPr/>
        </p:nvSpPr>
        <p:spPr>
          <a:xfrm>
            <a:off x="2057400" y="4724280"/>
            <a:ext cx="419112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Цветаева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0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1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1282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8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289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29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9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9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6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1297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00" dur="1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301" dur="1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302" dur="1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8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1309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12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313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314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0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321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24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325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326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2107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0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1343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25909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ebd40"/>
                </a:solidFill>
                <a:latin typeface="comic"/>
              </a:rPr>
              <a:t>Поздравляю,  вы </a:t>
            </a:r>
            <a:br>
              <a:rPr sz="5400"/>
            </a:br>
            <a:r>
              <a:rPr b="0" lang="ru-RU" sz="5400" spc="-1" strike="noStrike">
                <a:solidFill>
                  <a:srgbClr val="cebd40"/>
                </a:solidFill>
                <a:latin typeface="comic"/>
              </a:rPr>
              <a:t> </a:t>
            </a:r>
            <a:r>
              <a:rPr b="0" lang="ru-RU" sz="8800" spc="-1" strike="noStrike">
                <a:solidFill>
                  <a:srgbClr val="f1f622"/>
                </a:solidFill>
                <a:latin typeface="Monotype Corsiva"/>
              </a:rPr>
              <a:t>М</a:t>
            </a:r>
            <a:r>
              <a:rPr b="0" lang="ru-RU" sz="8800" spc="-1" strike="noStrike">
                <a:solidFill>
                  <a:srgbClr val="00ffff"/>
                </a:solidFill>
                <a:latin typeface="Monotype Corsiva"/>
              </a:rPr>
              <a:t>и</a:t>
            </a:r>
            <a:r>
              <a:rPr b="0" lang="ru-RU" sz="8800" spc="-1" strike="noStrike">
                <a:solidFill>
                  <a:srgbClr val="f6e2f2"/>
                </a:solidFill>
                <a:latin typeface="Monotype Corsiva"/>
              </a:rPr>
              <a:t>лл</a:t>
            </a:r>
            <a:r>
              <a:rPr b="0" lang="ru-RU" sz="8800" spc="-1" strike="noStrike">
                <a:solidFill>
                  <a:srgbClr val="2f9540"/>
                </a:solidFill>
                <a:latin typeface="Monotype Corsiva"/>
              </a:rPr>
              <a:t>и</a:t>
            </a:r>
            <a:r>
              <a:rPr b="0" lang="ru-RU" sz="8800" spc="-1" strike="noStrike">
                <a:solidFill>
                  <a:srgbClr val="f1f622"/>
                </a:solidFill>
                <a:latin typeface="Monotype Corsiva"/>
              </a:rPr>
              <a:t>о</a:t>
            </a:r>
            <a:r>
              <a:rPr b="0" lang="ru-RU" sz="8800" spc="-1" strike="noStrike">
                <a:solidFill>
                  <a:srgbClr val="0000ff"/>
                </a:solidFill>
                <a:latin typeface="Monotype Corsiva"/>
              </a:rPr>
              <a:t>н</a:t>
            </a:r>
            <a:r>
              <a:rPr b="0" lang="ru-RU" sz="8800" spc="-1" strike="noStrike">
                <a:solidFill>
                  <a:srgbClr val="00ffff"/>
                </a:solidFill>
                <a:latin typeface="Monotype Corsiva"/>
              </a:rPr>
              <a:t>ер</a:t>
            </a:r>
            <a:r>
              <a:rPr b="0" lang="ru-RU" sz="8800" spc="-1" strike="noStrike">
                <a:solidFill>
                  <a:srgbClr val="ffff99"/>
                </a:solidFill>
                <a:latin typeface="Monotype Corsiva"/>
              </a:rPr>
              <a:t>!</a:t>
            </a:r>
            <a:endParaRPr b="0" lang="en-US" sz="8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13" name="AutoShape 3"/>
          <p:cNvSpPr/>
          <p:nvPr/>
        </p:nvSpPr>
        <p:spPr>
          <a:xfrm>
            <a:off x="83818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7997" y="3837"/>
                </a:moveTo>
                <a:lnTo>
                  <a:pt x="20573" y="6448"/>
                </a:lnTo>
                <a:lnTo>
                  <a:pt x="20573" y="4707"/>
                </a:lnTo>
                <a:lnTo>
                  <a:pt x="22349" y="4707"/>
                </a:lnTo>
                <a:lnTo>
                  <a:pt x="22349" y="8224"/>
                </a:lnTo>
                <a:lnTo>
                  <a:pt x="24960" y="10800"/>
                </a:lnTo>
                <a:lnTo>
                  <a:pt x="23306" y="10800"/>
                </a:lnTo>
                <a:lnTo>
                  <a:pt x="23306" y="17989"/>
                </a:lnTo>
                <a:lnTo>
                  <a:pt x="12688" y="17989"/>
                </a:lnTo>
                <a:lnTo>
                  <a:pt x="12688" y="10800"/>
                </a:lnTo>
                <a:lnTo>
                  <a:pt x="11034" y="10800"/>
                </a:lnTo>
                <a:close/>
              </a:path>
              <a:path fill="darkenLess" w="35994" h="21600">
                <a:moveTo>
                  <a:pt x="20573" y="6448"/>
                </a:moveTo>
                <a:lnTo>
                  <a:pt x="20573" y="4707"/>
                </a:lnTo>
                <a:lnTo>
                  <a:pt x="22349" y="4707"/>
                </a:lnTo>
                <a:lnTo>
                  <a:pt x="22349" y="8224"/>
                </a:lnTo>
                <a:close/>
              </a:path>
              <a:path fill="darkenLess" w="35994" h="21600">
                <a:moveTo>
                  <a:pt x="17075" y="14299"/>
                </a:moveTo>
                <a:lnTo>
                  <a:pt x="18920" y="14299"/>
                </a:lnTo>
                <a:lnTo>
                  <a:pt x="18920" y="17989"/>
                </a:lnTo>
                <a:lnTo>
                  <a:pt x="23306" y="17989"/>
                </a:lnTo>
                <a:lnTo>
                  <a:pt x="23306" y="10800"/>
                </a:lnTo>
                <a:lnTo>
                  <a:pt x="12688" y="10800"/>
                </a:lnTo>
                <a:lnTo>
                  <a:pt x="12688" y="17989"/>
                </a:lnTo>
                <a:lnTo>
                  <a:pt x="17075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4" descr="12284"/>
          <p:cNvPicPr/>
          <p:nvPr/>
        </p:nvPicPr>
        <p:blipFill>
          <a:blip r:embed="rId1"/>
          <a:stretch/>
        </p:blipFill>
        <p:spPr>
          <a:xfrm flipH="1">
            <a:off x="7086240" y="380880"/>
            <a:ext cx="1346040" cy="15242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12284"/>
          <p:cNvPicPr/>
          <p:nvPr/>
        </p:nvPicPr>
        <p:blipFill>
          <a:blip r:embed="rId2"/>
          <a:stretch/>
        </p:blipFill>
        <p:spPr>
          <a:xfrm>
            <a:off x="609480" y="380880"/>
            <a:ext cx="1397160" cy="15242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3690"/>
          <p:cNvPicPr/>
          <p:nvPr/>
        </p:nvPicPr>
        <p:blipFill>
          <a:blip r:embed="rId3"/>
          <a:stretch/>
        </p:blipFill>
        <p:spPr>
          <a:xfrm>
            <a:off x="6934320" y="5105520"/>
            <a:ext cx="1904760" cy="15523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3725"/>
          <p:cNvPicPr/>
          <p:nvPr/>
        </p:nvPicPr>
        <p:blipFill>
          <a:blip r:embed="rId4"/>
          <a:stretch/>
        </p:blipFill>
        <p:spPr>
          <a:xfrm>
            <a:off x="2514600" y="152280"/>
            <a:ext cx="4286160" cy="19051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8" descr="3690"/>
          <p:cNvPicPr/>
          <p:nvPr/>
        </p:nvPicPr>
        <p:blipFill>
          <a:blip r:embed="rId5"/>
          <a:stretch/>
        </p:blipFill>
        <p:spPr>
          <a:xfrm flipH="1">
            <a:off x="456840" y="5105520"/>
            <a:ext cx="1600200" cy="15523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9" descr="3719"/>
          <p:cNvPicPr/>
          <p:nvPr/>
        </p:nvPicPr>
        <p:blipFill>
          <a:blip r:embed="rId6"/>
          <a:stretch/>
        </p:blipFill>
        <p:spPr>
          <a:xfrm>
            <a:off x="2743200" y="5353200"/>
            <a:ext cx="3467160" cy="12762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0" descr="327"/>
          <p:cNvPicPr/>
          <p:nvPr/>
        </p:nvPicPr>
        <p:blipFill>
          <a:blip r:embed="rId7"/>
          <a:stretch/>
        </p:blipFill>
        <p:spPr>
          <a:xfrm>
            <a:off x="500040" y="4768920"/>
            <a:ext cx="8077320" cy="1839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1" descr="327"/>
          <p:cNvPicPr/>
          <p:nvPr/>
        </p:nvPicPr>
        <p:blipFill>
          <a:blip r:embed="rId8"/>
          <a:stretch/>
        </p:blipFill>
        <p:spPr>
          <a:xfrm>
            <a:off x="533520" y="2209680"/>
            <a:ext cx="8076960" cy="1843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2" descr="400"/>
          <p:cNvPicPr/>
          <p:nvPr/>
        </p:nvPicPr>
        <p:blipFill>
          <a:blip r:embed="rId9"/>
          <a:stretch/>
        </p:blipFill>
        <p:spPr>
          <a:xfrm rot="16200000">
            <a:off x="-1024560" y="3328200"/>
            <a:ext cx="2905200" cy="3632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3" descr="400"/>
          <p:cNvPicPr/>
          <p:nvPr/>
        </p:nvPicPr>
        <p:blipFill>
          <a:blip r:embed="rId10"/>
          <a:stretch/>
        </p:blipFill>
        <p:spPr>
          <a:xfrm flipH="1" rot="5400000">
            <a:off x="7242480" y="3348720"/>
            <a:ext cx="2905200" cy="322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0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0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1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2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55" dur="1000" autoRev="1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356" dur="1000" autoRev="1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357" dur="1000" autoRev="1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458200" cy="25272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6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2122a"/>
                </a:solidFill>
                <a:latin typeface="Baskerville Old Face"/>
              </a:rPr>
              <a:t>2.</a:t>
            </a:r>
            <a:r>
              <a:rPr b="0" lang="ru-RU" sz="4400" spc="-1" strike="noStrike">
                <a:solidFill>
                  <a:srgbClr val="cebd4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Какими словами бранила старуха своего старика в “Сказке о рыбаке и рыбке”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87" name="AutoShape 19"/>
          <p:cNvSpPr/>
          <p:nvPr/>
        </p:nvSpPr>
        <p:spPr>
          <a:xfrm>
            <a:off x="228600" y="3809880"/>
            <a:ext cx="4267080" cy="125100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Горюшко ты моё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228600" y="5257800"/>
            <a:ext cx="426708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Пустая твоя голова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6"/>
          <p:cNvSpPr/>
          <p:nvPr/>
        </p:nvSpPr>
        <p:spPr>
          <a:xfrm>
            <a:off x="4648320" y="5257800"/>
            <a:ext cx="419076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Ах ты, мерзкий старик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8"/>
          <p:cNvSpPr/>
          <p:nvPr/>
        </p:nvSpPr>
        <p:spPr>
          <a:xfrm>
            <a:off x="4648320" y="3809880"/>
            <a:ext cx="426708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Дурачина ты, простофиля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0"/>
          <p:cNvSpPr/>
          <p:nvPr/>
        </p:nvSpPr>
        <p:spPr>
          <a:xfrm>
            <a:off x="-223920" y="293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26"/>
          <p:cNvSpPr/>
          <p:nvPr/>
        </p:nvSpPr>
        <p:spPr>
          <a:xfrm>
            <a:off x="304920" y="461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3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40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44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46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6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57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58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70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5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82" dur="25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83" dur="25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9940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a4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Times New Roman"/>
              </a:rPr>
              <a:t>3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колько лет Пушкин провёл в Царскосельском лицее?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12" name="AutoShape 17"/>
          <p:cNvSpPr/>
          <p:nvPr/>
        </p:nvSpPr>
        <p:spPr>
          <a:xfrm>
            <a:off x="228600" y="5257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5 лет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16"/>
          <p:cNvSpPr/>
          <p:nvPr/>
        </p:nvSpPr>
        <p:spPr>
          <a:xfrm>
            <a:off x="4572000" y="5257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9 месяцев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-223920" y="293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27"/>
          <p:cNvSpPr/>
          <p:nvPr/>
        </p:nvSpPr>
        <p:spPr>
          <a:xfrm>
            <a:off x="228600" y="42670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6 лет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28"/>
          <p:cNvSpPr/>
          <p:nvPr/>
        </p:nvSpPr>
        <p:spPr>
          <a:xfrm>
            <a:off x="4495680" y="4267080"/>
            <a:ext cx="403884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3 год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3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3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43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230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231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1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243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3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254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255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cc66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67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68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7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21463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Times New Roman"/>
              </a:rPr>
              <a:t>4.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оэт, подаривший Пушкину свой портрет с надписью “Победителю – ученику от побежденного учителя”</a:t>
            </a:r>
            <a:br>
              <a:rPr sz="4000"/>
            </a:br>
            <a:endParaRPr b="0" lang="en-US" sz="32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1600200" y="3657600"/>
            <a:ext cx="541008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9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Фонвиз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1752480" y="5486400"/>
            <a:ext cx="518184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9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Жуковск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1600200" y="2819520"/>
            <a:ext cx="5257800" cy="76176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9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Державин  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1676520" y="4572000"/>
            <a:ext cx="525780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9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Радищев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18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24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9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320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321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1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332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333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3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345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57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58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0-10-14T09:08:47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